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7F5-94ED-4614-86A1-72C708C0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F53-2CF8-4C62-B1D6-C625F391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EAF-1640-4054-A1AB-EC973303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F5F-C7FF-4950-BCC6-3A9863D0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BCE-3D10-4ADC-9F3C-6E1713D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E57-1290-4F6E-88BE-310B4C0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D6-073A-4DD6-AED6-7988916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55B-D4FF-42B5-A61B-6C8C0BE4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54B-716E-4B15-BB71-3AA4121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224-5DB8-4C63-933F-884C0C8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D57-C42D-4106-B621-C51C1067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1F8-B154-48CC-ADF9-113E776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F21-E091-4F45-BB60-C207A8D7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oingboing.net/IMG_227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Writing Lesson Goals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4" name="Picture 5" descr="inverse proportion.gif"/>
          <p:cNvPicPr/>
          <p:nvPr/>
        </p:nvPicPr>
        <p:blipFill>
          <a:blip r:embed="rId1"/>
          <a:stretch/>
        </p:blipFill>
        <p:spPr>
          <a:xfrm>
            <a:off x="182520" y="2895480"/>
            <a:ext cx="8732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uurtal\My Documents\My Pictures\farmer\farmer.jpg"/>
          <p:cNvPicPr/>
          <p:nvPr/>
        </p:nvPicPr>
        <p:blipFill>
          <a:blip r:embed="rId1"/>
          <a:stretch/>
        </p:blipFill>
        <p:spPr>
          <a:xfrm>
            <a:off x="304920" y="1752480"/>
            <a:ext cx="84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riting 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consolidating questions provided (with matching expec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Big Idea the question best connects to and write an appropriate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course you are comfortable with, perhaps one you will be teaching in th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xpectation that is connected to one of the 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 PPQT (Posing Powerful Questions Template)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sson goa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ecta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g Ide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solidation ques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4267080" y="44956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e6f05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need to complete the Minds On and Action portion of the template at this point – we will work on these later in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template that you created with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ider thi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solidation questions are more suitable for providing assessment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learning data, rather than assessment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learning data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5" name="Picture 4" descr="Img 2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57380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connecting questions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backward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learning goals connected to Big Ideas and curriculum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written in the form “Students will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connect to overall expectations, rather than specific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False.  Lesson goals are curriculum specific, and could relate to overall or specific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capable of being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primarily skill-b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False.  Lesson goals are usually rooted in conceptual under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usually filtered through a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lesson goal should be about something worth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written in the form “Students will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curriculum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capable of being ass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usually rooted in conceptual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usually filtered through a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about something worth teaching and they infuse/inform your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8:54:23Z</dcterms:created>
  <dc:creator>Liisa Suurtamm</dc:creator>
  <dc:description/>
  <dc:language>en-US</dc:language>
  <cp:lastModifiedBy>Liisa Suurtamm</cp:lastModifiedBy>
  <dcterms:modified xsi:type="dcterms:W3CDTF">2010-08-14T13:39:19Z</dcterms:modified>
  <cp:revision>6</cp:revision>
  <dc:subject/>
  <dc:title>Writing Lesson Goals</dc:title>
</cp:coreProperties>
</file>